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7"/>
          </p:nvPr>
        </p:nvSpPr>
        <p:spPr>
          <a:xfrm>
            <a:off x="0" y="8685360"/>
            <a:ext cx="296712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3BF09-7C65-4533-91BA-FD47BA485C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FF95-17A1-4B7C-9589-866BD09B0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492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05CC-35C2-49FE-936D-674F891A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364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720" y="3962160"/>
            <a:ext cx="401364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5016-851B-43CC-8E14-54BBBBD4F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1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840" y="3962160"/>
            <a:ext cx="26481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840" y="3962160"/>
            <a:ext cx="26481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8CC8-BB0F-4A4F-B19C-EB8F6FC3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F4AB6-88C8-401A-B409-6419F34DB8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E865D-F9C5-48D7-85C5-8810676528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52EBE-B090-46BB-B9C2-202D987242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A0CE7-E0D0-4BE1-9D38-17140ED53D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916E9-9A32-4286-9534-9B50D29CD1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102FC-9249-43AC-822B-8D5E8FBAD0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364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276FE-5E2A-4693-8697-F9A2D78ACF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2B40-FC85-4304-AD1A-426D9AE1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1720" y="3962160"/>
            <a:ext cx="401364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4EA53-EBBB-4E17-8B6C-AC6AB2494D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492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FDD67-269B-4892-ADA4-F1BBFDBF94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492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624E7-1ECE-434B-B6A3-83F67B8078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364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1720" y="3962160"/>
            <a:ext cx="401364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C47BB-1CD9-4284-881D-193B4DE33B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1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7840" y="3962160"/>
            <a:ext cx="26481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8840" y="3962160"/>
            <a:ext cx="26481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D2417-C76F-401D-858D-4A8ECA8769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2DBB-43F1-46C0-84B4-81F77DF2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F9C3-0DF7-4D55-99FE-B8256D8E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D345-95DA-4B47-85B2-CF5DE921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ABDA-7F1C-407D-B372-B018A0D1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364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661F-6B5C-4AA6-BBB0-F3EEBB97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720" y="3962160"/>
            <a:ext cx="401364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C0D4-D8F0-41FF-BDA9-9A280C89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492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1D77-D64D-467F-9B18-3DB49035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600" y="6244920"/>
            <a:ext cx="3425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© 2011, WhatTheyTh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6600" y="6245280"/>
            <a:ext cx="1595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EB602-325A-4099-B172-B24E180EAD7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28600" y="6248520"/>
            <a:ext cx="2057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" y="6172200"/>
            <a:ext cx="2514600" cy="458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85800" indent="-684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Click to edit Master text style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Second level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Third level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Fourth lev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85800" indent="-684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Click to edit Master text style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Second level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Third level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Fourth lev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4952520" y="6324480"/>
            <a:ext cx="2892600" cy="3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1, WhatTheyTh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8229240" y="6375240"/>
            <a:ext cx="606600" cy="2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799DEE-39E4-4A4B-A4B8-B182CC6347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5715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19520" y="2057400"/>
            <a:ext cx="5867280" cy="3657600"/>
          </a:xfrm>
          <a:prstGeom prst="rect">
            <a:avLst/>
          </a:prstGeom>
          <a:solidFill>
            <a:srgbClr val="333366">
              <a:alpha val="75000"/>
            </a:srgbClr>
          </a:solidFill>
          <a:ln w="0">
            <a:noFill/>
          </a:ln>
        </p:spPr>
        <p:txBody>
          <a:bodyPr lIns="90000" rIns="90000" tIns="748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Quarterly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U.S. Commercial Printing Profits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1995 to 2010</a:t>
            </a:r>
            <a:br>
              <a:rPr sz="40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ssued April 4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, 2011</a:t>
            </a:r>
            <a:br>
              <a:rPr sz="20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© 2011, WhatTheyThink Economics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and Research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11, WhatTheyThink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28D9-D72A-4428-BC32-06F57C84EAE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http://tinyurl.com/disruptingresourc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486400" y="1371600"/>
            <a:ext cx="3040200" cy="4702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807732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61962-7190-4130-B09E-CCB6FA802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632448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0, WhatTheyTh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604880"/>
            <a:ext cx="47372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DejaVu Sans"/>
              </a:rPr>
              <a:t>Download the PDF with live hyperlink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DejaVu Sans"/>
              </a:rPr>
              <a:t>Download “Renewing the Printing Industry”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DejaVu Sans"/>
              </a:rPr>
              <a:t>Download PDFs and Powerpoint files used in “Disrupting”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56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 about this data 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al data series is published by the U.S. Commerce Department and can be found at 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http://www.census.gov/indicator/www/m3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3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ts data are adapted from the Quarterly Financial Report of the Commerce Department 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http://www.census.gov/csd/qfr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3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I adjustment is based on data supplied by the U.S. Bureau of Labor Statistics 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www.bls.g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3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series are for “Printing” and include all segments in NAICS 323; the data series includes commercial printing and trade services such as prepress and postp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3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series does not include inplant printing, printing of newspapers in captive plants owned by newspapers, or packag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3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eport is updated quarterly; subscriptions are avail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11, WhatTheyThink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F91A-BC64-4D43-B449-9F5CD842A4E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56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out the WhatTheyThink.com Economics &amp; Research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03320" bIns="46800" anchor="t">
            <a:normAutofit/>
          </a:bodyPr>
          <a:p>
            <a:pPr marL="338040" indent="-338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conomics &amp; Research Center (ERC)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an expanded service of WhatTheyThink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features access to a wide range of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ustry data through text, audio, and vide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enter also produces a quarterly economic webinar where we review general economic, industry trends, and key issues that affect the demand for print and printing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sure to visit our </a:t>
            </a:r>
            <a:r>
              <a:rPr b="0" lang="en-GB" sz="2800" spc="-1" strike="noStrike">
                <a:solidFill>
                  <a:srgbClr val="ccccff"/>
                </a:solidFill>
                <a:latin typeface="Arial"/>
              </a:rPr>
              <a:t>web si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 more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11, WhatTheyThink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BE07-D93C-4383-88EE-D936328DCCDB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56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Use This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1640" bIns="46800" anchor="t">
            <a:normAutofit/>
          </a:bodyPr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s a Powerpoint file which can be used in your internal company and client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lides have been designed for easy “copy and paste” into your Powerpoint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information in these slides are to b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ed as “company confidential” and ar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© 2011 WhatTheyTh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11, WhatTheyThink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5BB4-6E87-4D2A-8BEF-89135E4DF61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8640" y="68400"/>
            <a:ext cx="822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8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ecutive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8840" y="914400"/>
            <a:ext cx="85662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6320" bIns="46800" anchor="t">
            <a:normAutofit fontScale="99000"/>
          </a:bodyPr>
          <a:p>
            <a:pPr marL="334440" indent="-3344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4-2010 profits before interest and taxes reported as $1.11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3-2010 PBIT revised down from $1.1B to $960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 inflation-adjusted PBIT were $3.4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2009 profits continue to be revised, and have ranged from a first report of $700MM to $520MM to $390MM to $130MM, to the latest $500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t levels continue to rise, not because of higher market pri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better capacity utilization, but because of continuing downsizing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 departure of weakest pri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WTT Economics and Research Center forecasting models continue to indicate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fit levels will remain under serious press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will be reliev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by the continuing and aggressive restructuring of the indu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0800" indent="-2782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profits need to increase 50% to reach highest levels of 10 years ago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rise more than 4x to reach levels seen in late 1990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800" indent="-2782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ces that encourage consolidation still very stro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800" indent="-2782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ipment levels are likely to be even with 2010 levels starting in M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800" indent="-2782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al trends are still negative, may get worse in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800" indent="-2782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 the monthly shipments report for February (issued April 2011) for more details about forecasts and GDP corre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11, WhatTheyThink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2C6C-95C9-4EB4-B163-203F7A291D2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9960" y="228600"/>
            <a:ext cx="8515440" cy="5648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11, WhatTheyThink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5764-F7F9-4ED5-9E2B-9A1D685328E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594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11, WhatTheyThink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D631-469E-4289-AD84-C7B4EDDA500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467560" cy="577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11, WhatTheyThink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1FF8-5FFD-4752-8859-B0084AD9FD7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0600" y="247680"/>
            <a:ext cx="8524800" cy="5467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11, WhatTheyThink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0BC9-D0D6-4034-9C94-09DD7B1CB0F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wnload PrintCEO Forum presentation  and sign up for Webin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38040" indent="-3380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CEO Forum: “Turbulent Ride to 2020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 Web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 in and register for April 20, 2pm E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D867-026C-4829-94CD-EFC6A884235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719460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0626-AEBF-4F8E-974E-2BFD0EE4831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7:54:50Z</dcterms:created>
  <dc:creator/>
  <dc:description/>
  <dc:language>en-US</dc:language>
  <cp:lastModifiedBy/>
  <cp:lastPrinted>2011-04-04T18:28:17Z</cp:lastPrinted>
  <dcterms:modified xsi:type="dcterms:W3CDTF">2011-04-04T20:25:16Z</dcterms:modified>
  <cp:revision>15</cp:revision>
  <dc:subject/>
  <dc:title>Slide 1</dc:title>
</cp:coreProperties>
</file>